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89B-0AED-486C-9D66-61D4A89E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434-E8B0-4349-865B-4C361FB6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4C4C7-1870-4551-891D-BB71756F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4DF7E-7C2B-4B4A-A783-EE60A0A4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41121-B1E9-41F4-A145-FECA4819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73306-5446-46C2-8F2C-FFA5784F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D4E20-1BB8-4F43-AEC9-80C0B531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5A324-0203-4AC2-8772-E4B62889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98CD6-6561-432E-A5E4-AC253BC9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F5565-1EA9-415F-8191-22595AC7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CFC7D-E1A8-4FAE-B83F-7246422E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6AB28-ACEC-42A9-9F73-A28C0CBE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F47-4070-4445-9856-6D64AEDC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D8B30-D8D9-49E0-AAC5-61C2DC6B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36DB5-8871-4DCE-863D-23BF4B8B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DEB0F-E117-4CBA-9EA5-77745AC5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2D816-7A10-44E4-B925-898828E8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286BF-D730-4B8D-997A-A1B43611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13970-9A04-436B-8074-A42F8CCD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6325E-1822-48BA-8AB5-08A3F6BF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D25C1-D25A-45EC-BADA-BE3B18A6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593F2-E667-43FC-AD17-CD4AD582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9CE6D-CD53-4682-A76C-544A09B7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30A-943E-42B5-8D11-6C7D3DE2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0E8E4-5891-4118-9C5D-697E4F03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92612-E37E-4E67-83DD-AB0EC4CF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4CEFE-2933-475C-861B-72E61750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44C03-B7E2-4A96-86AD-FD827DCB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F95AA-AC5D-4EA8-87A9-38B14DB2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33FFC-37D3-4C3F-B9B6-BB5E6A2D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302E5-30E2-4759-A7F5-B248B8E3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53ABB-2536-4B1F-84CE-BA122704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8ADA6-55B7-4AE9-A074-F12F5511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5B765-180F-4147-9241-85A56106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1A94-A349-4EB7-AC01-766D02FE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262DA-9161-495D-A3ED-B9B8349E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28470-1B62-4B00-BF03-76865AA4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A233A-C7E6-4985-85E9-04698742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02AF1-D333-4E6F-A5A7-B9E6A7E1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9ADBC-3AF7-4318-858B-18885BB5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F3255-0EF9-4675-90FB-BA57902C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CD49E-3B81-4142-8A18-F45DAA52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DDC57-4039-4DAB-8937-FBF8B94E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BC692-EB0F-46E0-BB25-9C1815F4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E8A91-6618-4E23-9AEC-929B92B8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A182-61CF-4728-AA7A-2E3E525B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4D560-3034-4CE8-A80B-13FE1BF4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DDB38-A93F-4F69-A1B0-CB647016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06B13-2F6F-4528-8132-ECCFE583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E83AD-BC3F-4DD1-AAF4-8CFB3323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8A3CC-77D6-4C9A-AA73-65B77642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2DD9F-BA53-4313-A73B-4D85F9AA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9F12D-0D52-4BA6-9116-46D5B33A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9887E-D479-4817-9C16-A06F0CBC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538F7-EA74-4136-9DCF-EF675AB5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FE143-2958-4BFB-A363-069A2170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D209-B78E-40E4-A4ED-F464D4E3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A4B12-B862-402B-AFCE-CFD505C1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FFFB4D-7229-47D7-8DFC-02F5B18D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D8F12-12B7-461C-9614-9C4F06B9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9CEB0-2C03-4E1E-B7A8-D77E16DB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1D3648-07D6-4C57-97C8-90A77057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871FC-AD67-4BF2-9E0E-499CF9D5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5D5DA-8B0B-406B-94B0-B881D773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DF4F7-47A7-4832-A467-6A40EA1E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1852A-C604-43CE-AB70-3F41C2C8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E86D2-570F-4B06-BE09-A24BD6DE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C027-3448-492F-8DDB-5A901905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D7139F-1F28-4098-8F67-CF445D3D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E3060-83E9-457B-B747-39056736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839CC8-B4A4-4277-8DC6-05950231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15764-98D1-480A-9D5E-82E0D779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3D80DA-8FB5-482A-A24D-CD5F8E7A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44A7A4-49E7-40EB-A39E-B42E8900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D128E3-47D9-4044-A999-E0FB29EF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8E21E-2B2B-41C3-BCA1-0E250383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FF9B20-11A9-4B2B-BA59-E3AF4FD3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B87F41-B7A2-4627-9078-7EEEFE21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785C-B718-4D53-A09C-8016AD8C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C14A30-2939-4FC0-A15C-DEB9BB3A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FCAB28-0810-455B-A239-3BD6918B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0A2020-9146-4010-BF48-64BF6B38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32FDE0-9832-4B36-9648-F64BEC5D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A92EB3-099F-4893-B248-1B669637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52EE2A-3957-493F-AAC7-4358C710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E9D224-F6AD-488E-956B-FEB83488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08E993-1720-4D79-B32E-EB06F4FB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BF79F5-B95F-43BD-A079-522EBD80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922E9-EBE3-4B5B-8CCA-7855F1E1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30FC-EC8E-4B05-9EF7-50D2EB52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39A7FD-7D19-49C0-A0D1-1F767B89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48290B-0EB1-491C-83CE-8E6869FA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EC10E6-2061-4E76-8A47-CC23294D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372572-F9C4-4E01-BB05-DA3FA20D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250FF-FA62-420C-8454-CAE6469D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242DE5-7101-45CD-9EDA-BCAFAF3D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3C7BAD-52A8-483D-B574-2C1818E6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9A1CA3-C129-4D24-805B-8DB91E33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77F8C0-B832-41C0-99E5-CF357F69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6A8AED-F8F9-4085-96E3-37B6FAAE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2BB8-5126-44B3-B0F9-4FA7631E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FF5695-146E-42B8-BD4C-9E8FEB42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7B4012-A24E-45D1-BF11-03C3E23D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E502EF-CBB4-4E9E-A55D-E7547600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670818-F301-4E36-ADA7-8A10EC98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B73D1B-70AD-453C-A71B-9E9D0694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F9BCDA-6B12-4D86-B092-C8BC1629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87E1EB-6979-40BF-98AE-9373F0E5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E6428D-FDDB-47E8-8071-1FE1BEA9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8AA910-5B0C-4B20-9650-543AA354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8D3968-3777-459F-91C8-7FDB7B3D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E1C-770B-4144-BF1C-47212D5A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3CDB-1CE1-4370-A874-75470064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248990-75BB-4063-8E70-AD00E1DB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665CCB-3857-4B28-89A7-169177D7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909119-A26D-4122-ACD3-6D52DCA1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B688C8-39CD-4329-961A-5BB07024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300783-3654-4AEB-9948-B0C4CB2B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61D3EA-4103-4B23-A943-7E404478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C1EA0C-B181-4965-AC71-15E05AF7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3CA7CA-AB25-4B03-9895-B2416CEE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034779-1586-44C6-88D1-1874119A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81EC89-9E08-4D17-84EC-75AEBF33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24F6-85DE-41C4-A45B-05EBE6FF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7B6893-338E-4CE2-95CB-25B34C3B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6CA472-636A-4BDD-A4E5-B8276157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8F2B68-0914-4D70-872F-2FF4D7CB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81C8B6-BEDD-4C3C-B4B0-EB50ED05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CFEE00-C94C-4A66-8C1F-4D5B057A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81DDA3-E6B6-4C8A-98C7-AEB36886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E87F50-62C8-463D-BA7F-AD17CD96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4F6471-0B38-40E1-B3BF-451EFF27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CA4D7C-5760-4245-A9AA-3BF85941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9F27C6-8EF3-49C6-BE1A-80784149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077C-1900-4A0F-888C-FDDDB166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103CED-7089-43D2-91CB-009215B9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4F0239-E6B7-4872-92B8-00A9F227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934CB9-6004-4AB8-ADE1-8E586242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0099CD-32C3-4FEB-A822-8D858BF5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64152F-4E0E-4A8E-AEAA-E6254552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27173B-0CC1-4B2F-9844-7EF64366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8E0795-E8C1-4886-9611-804A917E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69043E-D13D-4757-8F45-E765817A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62BE83-C79F-4001-9E98-43F3AC8F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55FAB8-6BF3-4E40-8901-8216B7C9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944C-8B51-43AB-8CFF-4A74F114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C0956E-6F66-430A-941E-B87CBB9E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E15AD7-4415-4E64-BAD5-816B4FD5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A093D6-A660-4BAF-9F03-884E4EF6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39DEF9-BB98-4A09-864B-2BFF23DF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BA0C2B-2ECD-4395-B948-FAFE9455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5F1ED1-DB3E-4DA7-8624-107232A3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0C98FA-A7BD-463A-A969-AFC76190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FF63AA-7B3C-4AB5-9A86-C4F3715C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742373-E2DC-421F-B562-0E9F2BF6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4E8535-93CA-407B-B525-E6F504B4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6794-075E-49D3-86B1-B90211BF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D0B4E1-D078-40CF-9C40-02989373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9EE9E6-424D-4463-8933-D00BA2D6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0915D3-64DE-46FD-B434-391F01B3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CC108E-17C6-41FA-890B-95ED45B5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1E5840-6BA5-4FCB-AFDD-0FE55008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108F6D-6AB3-4E16-8B3C-C25EB95F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3A6B94-474B-4EA4-B354-5A04D1ED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766D84-2918-42B8-9532-D870469D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57312E-8EE3-4C2E-832F-62545C3A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2150F5-248E-48EC-8767-6BACDBBA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060D7-BA38-4A44-AF8E-A27779D8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ACB215-86B0-4933-ACFF-F93977FE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B9F87D-6E6E-49EA-A096-AC674C4D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A443AA-1D40-46E7-8081-84A10F91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CEAD2-A741-4901-AB95-45224E88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90596-063E-4C84-8831-DD95C7F7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B888D-1962-42E1-87B5-C86BA0FC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A045B-A1B1-4AA2-9342-46066E95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B5F-FBB9-480A-B458-3F138DEC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C0F12-0BE8-4BBB-846C-C8340A1C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590FC-03AD-4FDF-95A8-20DA3B63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7BD6-E99C-4C1E-933F-906BD64B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3F09B-7A8D-4622-B9A0-BD6C46D8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0B8A-202E-4851-A32B-0A7022C7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940CA-3BCB-4BE7-BECD-6E576887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09436-A662-4A28-A493-939716BA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7DF0F-AB04-4BEE-8145-A9D52CA8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E36F8-93AB-4790-A173-F468D7B5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2DA0A-4C35-470A-9813-BFF246C8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9390-95B0-40B3-BC92-87ECB8F1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16FDD-7EC2-4746-9560-2B8B63F1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0BA67-2955-4794-B234-D8777977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15625-E491-477C-94A1-625EEBC4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E5E32-8D7A-49F6-900F-19921FB8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EB048-58B5-4007-B668-BA67C1D4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6B794-92CA-4B25-B8AC-D218F50B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4D715-C1AF-4683-AAA1-265BC985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A96C0-5186-4E38-AF47-AC43A9BD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AF857-1AE2-4D44-AC97-B45D506E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1B8BD-791D-49E9-A816-938F9931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8F82-E324-47AC-BA9A-35D66FC3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B1579-A43D-41D8-8268-F094DF1E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1B520-18CE-47BE-B08E-A757C9F3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EC3ED-BC57-4A93-9697-0E362F6E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E2412-B717-4A75-97CF-74C7FE8E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F9121-C3D9-4224-98F7-C36D2086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6543A-3C31-4187-A588-03220882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F8DB2-1D6F-4007-A0E9-A8A39234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2F151-E36B-428E-B3FE-7025811C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ADBEB-1749-4C94-BA98-D0C3431A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2D76A-A640-415E-82E1-6085257D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B13-1370-44A7-B48B-14C12A4D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F7D7E-1678-477F-8F00-6562CA66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636E5-A188-4BD4-B2FA-3EB742A1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2F2F8-4B9F-4EFF-A5C5-3E037FFE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CD66F-AFA5-4FCB-B82F-D775414D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2F0FD-A019-452F-92A4-486C92C5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50315-C1D7-4EF9-8783-12515BE3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71292-AD77-4AF8-8A2F-FD5B3CB2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7D2AD-F3BB-4493-A4E4-60E6B386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19C7B-9664-42BE-8AEC-ED929A57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F8BA4-52FA-43D0-9A96-11E3E27B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40D-E007-406E-8950-DAEAB85C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F1357-4EA0-4DA4-B1D9-81C21660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56084-8BC5-455A-A811-64B864B9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9D8FD-B502-4244-80F4-500C5B3E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71639-CDF0-4F15-9DC2-D3941733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EF6C8-7762-41C4-84E8-830E15E3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54ED1-1D6A-4846-8488-EFE880F7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A94A6-94B9-48B9-AA18-47393E82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B3BEE-403E-4DC9-BB5C-627F3993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BD2B2-9BF7-43B2-BAFA-683BC30B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4323E-2637-43F9-9AB2-4256081D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ACFF-4A70-4319-979D-6D8585DE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651BC-E5BF-4656-8FE5-91DB8959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59E1E-ED72-487E-ACD6-1F2B058E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DCFFE-7FB9-4A70-9CF8-392BD7B9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EC06C-C4C4-4C83-A772-5E5F4A74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96575-F689-4393-B761-B2E024B1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A3FB3-5244-420D-83FB-997C9ACA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22DDF-59DA-4D44-909E-731C2138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0E0E7-3B77-49A9-90C5-F445F4B5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B4BDD-840B-44B8-B2B1-D8D4A28C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399CF-7A09-4959-95EC-7BE0CE39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ECB0-D037-4001-972F-1B2C77A9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2DDFD-88C1-49A5-8A1A-1CDBF79F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882CB-0905-49AF-8467-F0EEE7E0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95AC4-528F-42D4-B1D0-97098172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832C6-1190-455A-A9DD-B57C0275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50B69-DC5E-44B8-A222-8F0AA66A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6EEF6-036F-4ABA-AC4E-D8560BF3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7E42E-52FD-4851-9360-463CB044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DDB41-BF86-4520-B777-F9E06B64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FA00A-AD3F-4FC5-8037-0B185FFF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C5529-4658-4EA0-9542-3F2C3B48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ECD7-2140-4DA5-B80B-9861AA19B9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F80E-5196-4DD5-8596-2AED53E3F9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F719-7470-428B-85B3-3BCD399B7B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0E78-A22C-4340-B882-BDC6DF8B8A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2F31-AF89-4F85-8C32-CD81F955BE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4E6F-F63C-402E-831E-31D4663899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7428-D92C-46A3-94B8-B649514EAE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7F25-1A6B-4D9C-A8A3-39D95DC61C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D2F7-CE0E-4CEB-B1FC-5F61C8F74C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B0E2-A34E-4857-8A4E-3FBD886557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07E7-456D-4D60-BA0D-F9A7C5E6D5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F2FD-7B04-4065-BC2A-78AA37D3B4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0617-D4D1-4192-BD20-C89565284E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44B0-6046-4FA0-9AEC-4A9BBC6E9D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02C5-5E4B-4033-99DE-45AB24BBD8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93B2-C47D-44BE-9369-CDA73BF753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E76B-73AF-4394-A680-9E8A17293B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269A-FE71-4B9F-B900-50B6F006E8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A351-2AFB-4A16-AD4F-DB05189A74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E8AA-9D12-4943-AA79-E75C6748E5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FE41-31B4-458D-82B6-61D900C8FB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A46D-1860-4E1E-92FE-CEB9F6B9ED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7DC4-57DB-4B78-ACD1-96E406C7CF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4D59-50CC-4F9C-929E-83C704AD9E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E7C1-BE1C-48CB-8518-C15184F6E6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B121-4621-44DD-974A-CD2572080E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C2C2-F84E-49D1-8B0D-324BD6B850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12C6-F4F9-4B0E-978B-00CD022944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9105-600C-421E-BBAC-42545AF422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CCA3-A44C-4E0C-9D2F-C203E727D1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B789-C6F4-472C-9201-6C41FBA31A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52B1-5B6C-4C48-84BD-A84CEC5B56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02E2-ACB6-4694-8EEF-CE72029062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33FC-AD4D-445A-AB29-540C37366B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4E99-DE28-441B-9A95-E663531F56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8660-8CEB-4CF7-9A6E-23D14BE933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B7CF-96C5-4160-8FD3-C9B2CA9FF9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2402-86BD-4CDB-8C19-220D714EC5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3969-1208-45E6-82DE-CBEC136FA4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A782-0886-4BD7-886C-4637B081D4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57440" y="3224160"/>
            <a:ext cx="40291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04840" y="1228680"/>
            <a:ext cx="8734320" cy="44006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556000" y="168120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067280" y="168120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508720" y="170028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093080" y="170028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059280" y="201780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788000" y="201780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2556000" y="237816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219640" y="2382840"/>
            <a:ext cx="72072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2771640" y="2752560"/>
            <a:ext cx="72072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5940360" y="2727360"/>
            <a:ext cx="72072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2401920" y="422100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3851280" y="422100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2050920" y="458136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971640" y="4941720"/>
            <a:ext cx="720720" cy="2574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2268360" y="5281560"/>
            <a:ext cx="72108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6372360" y="424008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7956720" y="423072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5651640" y="458136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7380360" y="458136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6300720" y="4941720"/>
            <a:ext cx="792360" cy="257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7667640" y="5281560"/>
            <a:ext cx="79200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9410" descr=""/>
          <p:cNvPicPr/>
          <p:nvPr/>
        </p:nvPicPr>
        <p:blipFill>
          <a:blip r:embed="rId1"/>
          <a:stretch/>
        </p:blipFill>
        <p:spPr>
          <a:xfrm>
            <a:off x="552600" y="1795320"/>
            <a:ext cx="8038800" cy="32673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792360" cy="257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6084720" y="2349360"/>
            <a:ext cx="79236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7380360" y="2349360"/>
            <a:ext cx="79200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3708360" y="2800440"/>
            <a:ext cx="79236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4932360" y="2800440"/>
            <a:ext cx="792000" cy="257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6227640" y="2800440"/>
            <a:ext cx="79236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2268360" y="4024440"/>
            <a:ext cx="79236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3780000" y="4024440"/>
            <a:ext cx="57600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0"/>
          <a:stretch/>
        </p:blipFill>
        <p:spPr>
          <a:xfrm>
            <a:off x="2340000" y="4384800"/>
            <a:ext cx="71928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1"/>
          <a:stretch/>
        </p:blipFill>
        <p:spPr>
          <a:xfrm>
            <a:off x="3780000" y="4384800"/>
            <a:ext cx="718920" cy="2570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2"/>
          <a:stretch/>
        </p:blipFill>
        <p:spPr>
          <a:xfrm>
            <a:off x="5076720" y="4375080"/>
            <a:ext cx="719280" cy="2574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3"/>
          <a:stretch/>
        </p:blipFill>
        <p:spPr>
          <a:xfrm>
            <a:off x="6381720" y="438480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4"/>
          <a:stretch/>
        </p:blipFill>
        <p:spPr>
          <a:xfrm>
            <a:off x="2411280" y="4724280"/>
            <a:ext cx="648000" cy="2574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5"/>
          <a:stretch/>
        </p:blipFill>
        <p:spPr>
          <a:xfrm>
            <a:off x="3780000" y="4724280"/>
            <a:ext cx="647640" cy="2574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6"/>
          <a:stretch/>
        </p:blipFill>
        <p:spPr>
          <a:xfrm>
            <a:off x="5219640" y="4724280"/>
            <a:ext cx="36036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8373" descr=""/>
          <p:cNvPicPr/>
          <p:nvPr/>
        </p:nvPicPr>
        <p:blipFill>
          <a:blip r:embed="rId1"/>
          <a:stretch/>
        </p:blipFill>
        <p:spPr>
          <a:xfrm>
            <a:off x="299880" y="1228680"/>
            <a:ext cx="8544240" cy="44006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2268360" y="3616200"/>
            <a:ext cx="1511640" cy="6764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6156360" y="3611520"/>
            <a:ext cx="1511280" cy="6764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3132000" y="4941720"/>
            <a:ext cx="3095640" cy="2574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3492360" y="5281560"/>
            <a:ext cx="648000" cy="2574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6227640" y="5276880"/>
            <a:ext cx="6480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08:10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